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0F7-F8FB-4144-B8E4-02E3E715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7DE-88A4-49CC-9A41-ABB25F65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1DE-0688-4CCF-8EDD-B1322C4B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F85-349E-498D-BFED-67869538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9D88-A8B2-46A4-9F6F-66BFDE95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B5C1-330D-410C-8BA3-A293906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606C-880A-4918-B115-6455B53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B2D1-C060-4D03-A6B0-C2FC9ED3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0E88-49FB-4DF4-B9E6-53A170B4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7E9D-3D9B-4F83-80D0-34E60224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FD63-1A21-440C-8297-054E00A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716-B125-4C52-A84D-F697EB47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1AE9-6B12-4C52-9514-F2C954FB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68E3-68D2-46F0-9E24-25ED2AA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EF33-4BCC-40C3-BB57-CC9E4949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6557-C905-4DC0-9759-457B41D9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551A-47DE-498D-B558-914CEF5F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441-B9ED-4317-9131-C8D4B66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F8B-7003-466B-AF6F-7D24A20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DC0-7BEA-4499-8051-84F1CCFA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03B-D64D-42E8-BC2F-59650C90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A62-4624-4A4E-AC30-1D0A5D8C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1FD-C09C-4A4F-9AE0-C9BC7D81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7DF-CF3C-490D-9490-D34A4A1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2AA-7357-4F45-A6CD-03CCC4C01C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3764-0769-460E-9CF8-5E3C760F9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 Tell The Good News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Par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ter 11, Lesson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s 18:12-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s 114-1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7C6D-8B9F-4618-AF81-E0407FD266A1}" type="slidenum">
              <a:t>1</a:t>
            </a:fld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Returns To Antioch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18: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“went up”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aluted (greeted) the church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kept the f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 “went down” to Antio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no doubt gave a report of his activities to both congre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s second journey was o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CAA-443A-41CF-A772-25CEC6382E4C}" type="slidenum">
              <a:t>10</a:t>
            </a:fld>
          </a:p>
        </p:txBody>
      </p:sp>
    </p:spTree>
  </p:cSld>
  <p:transition spd="med">
    <p:plus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4920" y="1828800"/>
            <a:ext cx="1295280" cy="609480"/>
          </a:xfrm>
          <a:prstGeom prst="ellips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49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ul’s Second 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685800"/>
            <a:ext cx="1295280" cy="304920"/>
          </a:xfrm>
          <a:prstGeom prst="rect">
            <a:avLst/>
          </a:pr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6248520"/>
            <a:ext cx="1295280" cy="609480"/>
          </a:xfrm>
          <a:prstGeom prst="ellips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457200"/>
            <a:ext cx="1523880" cy="304920"/>
          </a:xfrm>
          <a:prstGeom prst="rect">
            <a:avLst/>
          </a:pr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B32-AE10-4A96-94E1-6F1C9F124D4F}" type="slidenum">
              <a:t>11</a:t>
            </a:fld>
          </a:p>
        </p:txBody>
      </p:sp>
    </p:spTree>
  </p:cSld>
  <p:transition spd="med">
    <p:plus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80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0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C -0.03489 -0.01297 -0.01562 -0.00741 -0.08871 -0.00209 C -0.09201 -0.00185 -0.09826 0.00208 -0.09826 0.00208 C -0.10694 0.00995 -0.09913 0.00416 -0.11128 0.00856 C -0.11458 0.00972 -0.12083 0.01296 -0.12083 0.01296 C -0.12603 0.01759 -0.1309 0.02106 -0.13697 0.02361 C -0.13992 0.02754 -0.14392 0.03009 -0.14669 0.03449 C -0.14826 0.03703 -0.14878 0.04028 -0.14999 0.04305 C -0.1552 0.05463 -0.15919 0.06203 -0.16614 0.07106 C -0.1651 0.12453 -0.16996 0.18009 -0.14669 0.22592 C -0.1427 0.24236 -0.14808 0.22222 -0.14183 0.23866 C -0.14114 0.24074 -0.14149 0.24352 -0.14027 0.24514 C -0.13906 0.24676 -0.13697 0.24676 -0.13541 0.24745 C -0.13176 0.26227 -0.12517 0.26528 -0.1144 0.26875 C -0.10294 0.27916 -0.08298 0.27662 -0.07083 0.27754 C -0.05468 0.27616 -0.03853 0.27546 -0.02256 0.27315 C 0.0073 0.26852 0.01424 0.21227 0.02744 0.18495 C 0.03022 0.17106 0.03386 0.15787 0.03716 0.14421 C 0.03872 0.10023 0.03091 0.10139 0.05487 0.09259 C 0.05174 0.08981 0.04844 0.0868 0.04532 0.08403 C 0.04376 0.08264 0.04046 0.07963 0.04046 0.07963 C 0.03768 0.06944 0.03091 0.05972 0.02431 0.0537 C 0.02327 0.05092 0.02275 0.04745 0.02101 0.04514 C 0.01928 0.04282 0.01667 0.04259 0.01459 0.04097 C 0.01285 0.03958 0.01112 0.03842 0.00973 0.03657 C -0.00242 0.02037 0.01147 0.03403 6.66667E-006 0.02361 C -0.00209 0.01967 -0.00954 0.00879 -0.00954 0.00208 E">
                                      <p:cBhvr>
                                        <p:cTn id="29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8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8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8519E-006 C -0.01059 -0.00672 -0.00347 -0.00163 -0.01597 -0.01297 C -0.01753 -0.01436 -0.02083 -0.01714 -0.02083 -0.01714 C -0.02882 -0.03844 -0.02569 -0.02825 -0.03055 -0.04723 C -0.02934 -0.08496 -0.03021 -0.11714 -0.01441 -0.14839 C -0.01198 -0.15881 -0.00989 -0.16459 -0.00642 -0.17408 C -0.00312 -0.18288 -0.00243 -0.19168 0.00174 -0.20001 C 0.00382 -0.21181 0.00903 -0.22223 0.01146 -0.23427 C 0.01389 -0.24631 0.01597 -0.25857 0.01788 -0.27084 C 0.02049 -0.3132 0.01754 -0.35857 0.03229 -0.39769 E">
                                      <p:cBhvr>
                                        <p:cTn id="303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64 -0.39584 C 0.03838 -0.41922 0.03542 -0.44561 0.04306 -0.46667 C 0.03386 -0.47292 0.03334 -0.47014 0.02379 -0.46667 C 0.02015 -0.46991 0.01529 -0.47107 0.01251 -0.47547 C 0.00435 -0.4882 0.01042 -0.50024 -0.00694 -0.50764 C -0.00815 -0.51042 -0.01232 -0.51991 -0.01492 -0.52061 C -0.01822 -0.52153 -0.02152 -0.51945 -0.02464 -0.51829 C -0.02794 -0.51714 -0.03437 -0.51413 -0.03437 -0.51413 C -0.02708 -0.52871 -0.0243 -0.52848 -0.03263 -0.52477 C -0.03211 -0.52269 -0.0302 -0.52014 -0.03107 -0.51829 C -0.03194 -0.51644 -0.04044 -0.51274 -0.04235 -0.51181 C -0.04339 -0.50973 -0.04426 -0.50741 -0.04565 -0.50556 C -0.04756 -0.50302 -0.05034 -0.50186 -0.05208 -0.49908 C -0.05312 -0.49723 -0.0526 -0.49445 -0.05364 -0.4926 C -0.05537 -0.48982 -0.05937 -0.48959 -0.06006 -0.48612 C -0.06162 -0.47848 -0.06006 -0.47038 -0.06006 -0.46251 E">
                                      <p:cBhvr>
                                        <p:cTn id="30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8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07 -0.46251 C -0.06111 -0.47547 -0.06163 -0.48844 -0.06336 -0.50117 C -0.06371 -0.50371 -0.06562 -0.50533 -0.06649 -0.50765 C -0.07586 -0.5308 -0.0776 -0.53844 -0.09548 -0.5507 C -0.10729 -0.55001 -0.11927 -0.54978 -0.13107 -0.54862 C -0.14253 -0.54746 -0.15277 -0.5382 -0.16336 -0.53357 C -0.16909 -0.52825 -0.17604 -0.52339 -0.18263 -0.52061 C -0.18836 -0.51529 -0.19531 -0.51228 -0.20034 -0.50556 C -0.20798 -0.49538 -0.19965 -0.50163 -0.20677 -0.497 E">
                                      <p:cBhvr>
                                        <p:cTn id="309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88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6 -0.49699 C -0.20833 -0.49838 -0.21041 -0.49931 -0.21162 -0.50116 C -0.21423 -0.50509 -0.21475 -0.51134 -0.21805 -0.51412 C -0.22378 -0.51898 -0.22291 -0.51574 -0.22291 -0.52269 E">
                                      <p:cBhvr>
                                        <p:cTn id="31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8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7 -0.49653 C -0.20399 -0.50162 -0.20086 -0.50556 -0.19791 -0.50926 C -0.19652 -0.51112 -0.1934 -0.51482 -0.1934 -0.51436 C -0.18611 -0.53311 -0.18246 -0.53079 -0.17222 -0.54422 C -0.16892 -0.54792 -0.16649 -0.55417 -0.16284 -0.55579 C -0.14774 -0.56227 -0.15225 -0.5551 -0.14583 -0.56667 E">
                                      <p:cBhvr>
                                        <p:cTn id="315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48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36 -0.54862 C -0.15156 -0.5551 -0.15989 -0.5676 -0.16979 -0.57037 C -0.18107 -0.57362 -0.19236 -0.57454 -0.20364 -0.57662 C -0.21788 -0.58727 -0.23073 -0.60487 -0.24392 -0.61991 C -0.24687 -0.62315 -0.25173 -0.63149 -0.2552 -0.63218 C -0.26163 -0.63334 -0.26805 -0.63218 -0.27448 -0.63218 E">
                                      <p:cBhvr>
                                        <p:cTn id="318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780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48 -0.60672 C -0.27812 -0.62639 -0.28281 -0.64862 -0.29705 -0.65834 C -0.30069 -0.66829 -0.30538 -0.67686 -0.30989 -0.68612 C -0.31215 -0.69098 -0.31753 -0.69167 -0.32118 -0.69468 C -0.32535 -0.70579 -0.33125 -0.7095 -0.33889 -0.71621 C -0.35069 -0.72663 -0.3625 -0.73658 -0.37448 -0.7463 C -0.37778 -0.74908 -0.38055 -0.75278 -0.38403 -0.7551 C -0.38628 -0.75649 -0.38854 -0.75764 -0.39062 -0.75926 C -0.39392 -0.76181 -0.39705 -0.76505 -0.40017 -0.76783 C -0.40173 -0.76922 -0.40503 -0.77223 -0.40503 -0.77223 C -0.42847 -0.77084 -0.44323 -0.76852 -0.46476 -0.76575 C -0.47656 -0.77038 -0.47604 -0.76482 -0.47604 -0.77223 E">
                                      <p:cBhvr>
                                        <p:cTn id="321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8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03 -0.77223 C -0.48333 -0.79168 -0.47846 -0.78589 -0.48732 -0.79376 C -0.49166 -0.80533 -0.49426 -0.80441 -0.5019 -0.81089 C -0.50572 -0.82154 -0.5085 -0.82293 -0.51631 -0.82802 C -0.52048 -0.83913 -0.52482 -0.84978 -0.52933 -0.86043 C -0.53055 -0.8632 -0.53333 -0.87293 -0.53576 -0.87547 C -0.53714 -0.87686 -0.53905 -0.87686 -0.54062 -0.87756 C -0.54426 -0.88519 -0.54669 -0.89376 -0.55034 -0.90117 C -0.55242 -0.90556 -0.55676 -0.91413 -0.55676 -0.91413 C -0.55624 -0.91691 -0.55503 -0.92269 -0.55503 -0.92269 E">
                                      <p:cBhvr>
                                        <p:cTn id="324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3800"/>
                            </p:stCondLst>
                            <p:childTnLst>
                              <p:par>
                                <p:cTn id="3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3 -0.92246 C -0.5592 -0.91389 -0.56145 -0.91551 -0.56788 -0.91158 C -0.5776 -0.90556 -0.58645 -0.89977 -0.59687 -0.89653 C -0.6092 -0.89283 -0.62204 -0.89098 -0.63402 -0.88588 C -0.63246 -0.8845 -0.6309 -0.88264 -0.62916 -0.88149 C -0.62604 -0.87963 -0.61944 -0.87732 -0.61944 -0.87732 C -0.61788 -0.87593 -0.61631 -0.87408 -0.61458 -0.87292 C -0.61145 -0.87107 -0.60503 -0.86876 -0.60503 -0.86876 E">
                                      <p:cBhvr>
                                        <p:cTn id="327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68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503 -0.86852 C -0.63455 -0.88195 -0.66545 -0.87709 -0.69687 -0.87709 E">
                                      <p:cBhvr>
                                        <p:cTn id="330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98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687 -0.87709 C -0.69531 -0.8757 -0.6934 -0.87477 -0.69201 -0.87292 C -0.69062 -0.87107 -0.69045 -0.86806 -0.68889 -0.86644 C -0.68628 -0.86366 -0.68229 -0.86412 -0.67917 -0.86204 C -0.66701 -0.85394 -0.68142 -0.86111 -0.66944 -0.85579 C -0.66614 -0.8544 -0.66302 -0.85278 -0.65972 -0.85139 C -0.65816 -0.8507 -0.65503 -0.84931 -0.65503 -0.84931 C -0.65347 -0.84792 -0.65191 -0.84607 -0.65017 -0.84491 C -0.64861 -0.84398 -0.64653 -0.84445 -0.64531 -0.84283 C -0.62587 -0.8169 -0.64809 -0.8382 -0.63403 -0.82546 C -0.63194 -0.8213 -0.62969 -0.8169 -0.6276 -0.81273 C -0.62656 -0.81065 -0.6243 -0.80625 -0.6243 -0.80625 C -0.61667 -0.77662 -0.62014 -0.7588 -0.63889 -0.74167 C -0.64097 -0.73727 -0.64323 -0.7331 -0.64531 -0.72894 C -0.64635 -0.72662 -0.64844 -0.72246 -0.64844 -0.72246 C -0.64792 -0.71528 -0.64792 -0.7081 -0.64687 -0.70093 C -0.64427 -0.68148 -0.63941 -0.67917 -0.6276 -0.66852 C -0.6217 -0.6632 -0.61649 -0.6625 -0.60972 -0.65996 C -0.60642 -0.6588 -0.60017 -0.65579 -0.60017 -0.65579 C -0.58889 -0.6456 -0.60017 -0.65371 -0.59687 -0.65996 C -0.59583 -0.66181 -0.59358 -0.65857 -0.59201 -0.65787 C -0.58715 -0.64769 -0.58715 -0.63843 -0.58715 -0.62546 E">
                                      <p:cBhvr>
                                        <p:cTn id="333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28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715 -0.62547 C -0.59982 -0.63218 -0.61041 -0.64329 -0.62256 -0.65116 C -0.6434 -0.65047 -0.69756 -0.65672 -0.71944 -0.62755 E">
                                      <p:cBhvr>
                                        <p:cTn id="33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8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800"/>
                            </p:stCondLst>
                            <p:childTnLst>
                              <p:par>
                                <p:cTn id="3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78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C -0.01111 0.01504 -0.00521 0.01157 -0.01597 0.01504 C -0.02361 0.02523 -0.02986 0.03426 -0.04028 0.03866 C -0.0467 0.04722 -0.05139 0.05579 -0.05798 0.06458 C -0.05972 0.0669 -0.05972 0.0706 -0.06128 0.07315 C -0.06302 0.07592 -0.06597 0.07685 -0.06771 0.07963 C -0.07031 0.08333 -0.07205 0.08819 -0.07413 0.09236 C -0.07517 0.09444 -0.07743 0.09884 -0.07743 0.09884 C -0.07691 0.10254 -0.07708 0.10648 -0.07569 0.10972 C -0.07465 0.11204 -0.07222 0.11204 -0.07083 0.11389 C -0.06354 0.12361 -0.07239 0.11829 -0.06285 0.12245 C -0.0618 0.12454 -0.06146 0.12847 -0.05955 0.12893 C -0.05798 0.12917 -0.04687 0.12176 -0.04514 0.12037 C -0.04184 0.11759 -0.03542 0.1118 -0.03542 0.1118 C -0.01215 0.11481 -0.02344 0.10903 -0.01441 0.12685 C -0.00937 0.14768 -0.00781 0.17106 0.00972 0.17847 C 0.01493 0.1831 0.01979 0.18657 0.02587 0.18912 C 0.0342 0.19653 0.04219 0.19236 0.05 0.18495 C 0.06077 0.17477 0.0717 0.16713 0.07917 0.15254 C 0.07969 0.15046 0.07986 0.14815 0.08073 0.14629 C 0.08195 0.14375 0.08455 0.14259 0.08559 0.13981 C 0.0875 0.13449 0.08733 0.12801 0.08872 0.12245 C 0.07813 0.10116 0.09514 0.1331 0.07917 0.1118 C 0.07743 0.10949 0.0783 0.10393 0.07587 0.10324 C 0.06111 0.0993 0.04583 0.10023 0.03073 0.09884 C 0.01528 0.09305 0.02309 0.09768 0.00972 0.08588 C 0.00816 0.08449 0.00643 0.0831 0.00486 0.08171 C 0.0033 0.08032 1.94444E-006 0.07731 1.94444E-006 0.07731 C -0.00746 0.0618 0.00226 0.07963 -0.00955 0.06667 C -0.01441 0.06134 -0.01701 0.04792 -0.01927 0.04074 C -0.01771 0.01944 -0.02222 0.02222 -0.01285 0.01504 C -0.0066 0.01018 -0.00868 0.01065 -0.00469 0.01065 E">
                                      <p:cBhvr>
                                        <p:cTn id="34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9800"/>
                            </p:stCondLst>
                            <p:childTnLst>
                              <p:par>
                                <p:cTn id="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28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59259E-006 C 0.01024 0.00324 0.02065 0.0051 0.03072 0.00857 C 0.03697 0.01088 0.04357 0.01551 0.04999 0.01713 C 0.05347 0.01806 0.05937 0.01899 0.06284 0.02153 C 0.06614 0.02408 0.07256 0.0301 0.07256 0.0301 C 0.08176 0.06482 0.09426 0.06389 0.11944 0.06667 C 0.12604 0.06829 0.13229 0.07084 0.13871 0.07315 C 0.16718 0.07176 0.19583 0.0713 0.2243 0.06875 C 0.24235 0.06713 0.25347 0.04375 0.26458 0.04283 C 0.28055 0.04144 0.2967 0.04283 0.31284 0.04283 E">
                                      <p:cBhvr>
                                        <p:cTn id="359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58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 0.04214 C 0.30226 0.04514 0.28906 0.04746 0.27673 0.05325 C 0.27292 0.05695 0.2691 0.06065 0.2651 0.06436 C 0.26354 0.06598 0.26007 0.06876 0.26007 0.06876 C 0.25816 0.07269 0.25347 0.07501 0.2533 0.07987 C 0.25226 0.10903 0.25382 0.1176 0.25677 0.13982 C 0.25746 0.15186 0.25434 0.16621 0.26007 0.17547 C 0.26406 0.18195 0.27292 0.18264 0.2783 0.18427 C 0.29167 0.1882 0.30503 0.19121 0.3184 0.19538 C 0.32014 0.19769 0.32135 0.20047 0.32344 0.20209 C 0.32864 0.20602 0.3401 0.21112 0.3401 0.21112 C 0.34236 0.21413 0.3441 0.2176 0.3467 0.21991 C 0.34809 0.2213 0.35035 0.22084 0.35173 0.22223 C 0.3533 0.22385 0.35382 0.22686 0.35503 0.22871 C 0.35764 0.23264 0.36059 0.23612 0.36337 0.23982 C 0.36441 0.24144 0.36667 0.24445 0.36667 0.24445 C 0.3684 0.25116 0.37309 0.26158 0.37673 0.26667 C 0.3809 0.28427 0.375 0.26274 0.38177 0.27778 C 0.38871 0.29329 0.37743 0.27616 0.38663 0.28889 C 0.3901 0.30209 0.39826 0.31343 0.40833 0.3176 C 0.41267 0.32362 0.41614 0.32339 0.4217 0.32663 C 0.42621 0.3294 0.43507 0.33542 0.43507 0.33542 C 0.43819 0.33959 0.44219 0.34214 0.44496 0.34653 C 0.45885 0.36783 0.44392 0.35371 0.46007 0.36667 C 0.46389 0.37408 0.46528 0.37709 0.4717 0.37987 C 0.47344 0.38218 0.47465 0.38496 0.47673 0.38658 C 0.47969 0.38889 0.48663 0.39098 0.48663 0.39098 C 0.48785 0.39329 0.48854 0.39584 0.4901 0.39769 C 0.49305 0.40116 0.5 0.40649 0.5 0.40649 C 0.50434 0.41552 0.51094 0.42084 0.51667 0.42871 C 0.51979 0.43288 0.5217 0.43843 0.525 0.44214 C 0.52639 0.44376 0.52847 0.44329 0.53003 0.44445 C 0.53177 0.44561 0.53351 0.447 0.53507 0.44885 C 0.54462 0.45996 0.54965 0.46852 0.56007 0.47778 C 0.56528 0.48241 0.56771 0.49214 0.57344 0.49538 C 0.58177 0.50001 0.58837 0.50718 0.5967 0.51112 C 0.60399 0.52385 0.61337 0.53102 0.6217 0.54214 C 0.62604 0.55927 0.61979 0.53866 0.6283 0.55325 C 0.62934 0.5551 0.62917 0.55788 0.63003 0.55996 C 0.63246 0.56621 0.63472 0.57269 0.63837 0.57778 C 0.64219 0.59214 0.64219 0.61482 0.65677 0.61552 C 0.67222 0.61621 0.68785 0.61552 0.7033 0.61552 E">
                                      <p:cBhvr>
                                        <p:cTn id="362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8800"/>
                            </p:stCondLst>
                            <p:childTnLst>
                              <p:par>
                                <p:cTn id="3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3 0.61551 C 0.69583 0.61713 0.68889 0.61921 0.6816 0.62222 C 0.68056 0.62454 0.67951 0.62685 0.6783 0.62893 C 0.67726 0.63055 0.675 0.63125 0.67483 0.63333 C 0.67431 0.63842 0.6757 0.64375 0.67656 0.64884 C 0.67691 0.65116 0.67708 0.65393 0.6783 0.65555 C 0.67951 0.65717 0.6816 0.65717 0.68316 0.65787 C 0.69011 0.66666 0.70365 0.67106 0.7132 0.67106 E">
                                      <p:cBhvr>
                                        <p:cTn id="365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1800"/>
                            </p:stCondLst>
                            <p:childTnLst>
                              <p:par>
                                <p:cTn id="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319 0.67106 C 0.70399 0.66273 0.70139 0.65856 0.68993 0.65347 C 0.68229 0.6463 0.67795 0.63588 0.66996 0.62893 C 0.66632 0.62153 0.66284 0.6169 0.65989 0.60903 C 0.66163 0.5919 0.66284 0.57454 0.66996 0.55995 C 0.67239 0.55 0.67882 0.53333 0.68333 0.52454 C 0.68593 0.51412 0.68975 0.50185 0.69166 0.4912 C 0.69375 0.4787 0.69618 0.46643 0.70156 0.45555 C 0.70503 0.43796 0.70868 0.41528 0.71666 0.4 C 0.72031 0.37384 0.71614 0.40046 0.71996 0.38218 C 0.72118 0.37639 0.72326 0.36458 0.72326 0.36458 C 0.72482 0.33055 0.72326 0.29606 0.72656 0.26227 C 0.72708 0.25718 0.74218 0.25509 0.74826 0.25347 C 0.75191 0.24838 0.75 0.24884 0.75329 0.24884 E">
                                      <p:cBhvr>
                                        <p:cTn id="368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525780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DA9-1C3E-4C33-A14D-C6E70014AC2F}" type="slidenum">
              <a:t>12</a:t>
            </a:fld>
          </a:p>
        </p:txBody>
      </p:sp>
    </p:spTree>
  </p:cSld>
  <p:transition spd="med">
    <p:plus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aul’s Second Missionary Journ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163520"/>
            <a:ext cx="6858000" cy="5694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86600" y="1752480"/>
            <a:ext cx="1905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oday’s Lesson We Find Paul At Point 18 on the Map (Corinth) and He Travels Back To Point 23 (Antioch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19520"/>
            <a:ext cx="838080" cy="76176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3733920"/>
            <a:ext cx="685800" cy="99036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14300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040-9DD4-4A21-92FB-211C0EC82791}" type="slidenum">
              <a:t>2</a:t>
            </a:fld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920" y="1828800"/>
            <a:ext cx="1295280" cy="609480"/>
          </a:xfrm>
          <a:prstGeom prst="ellips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952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ul Returns To 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762120"/>
            <a:ext cx="1295280" cy="228600"/>
          </a:xfrm>
          <a:prstGeom prst="rect">
            <a:avLst/>
          </a:pr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498-8C35-4106-9877-2B1B7E3EBE76}" type="slidenum">
              <a:t>3</a:t>
            </a:fld>
          </a:p>
        </p:txBody>
      </p:sp>
    </p:spTree>
  </p:cSld>
  <p:transition spd="med"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9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66667E-006 C -0.01388 0.00069 -0.02777 0.00115 -0.04166 0.00231 C -0.05034 0.003 -0.05694 0.01064 -0.06493 0.01342 C -0.07291 0.02036 -0.07621 0.02685 -0.08159 0.03773 C -0.08263 0.04004 -0.08489 0.04444 -0.08489 0.04444 C -0.08437 0.05486 -0.0842 0.06527 -0.08333 0.07546 C -0.08281 0.0824 -0.08055 0.08286 -0.07829 0.08888 C -0.07743 0.09097 -0.07777 0.09398 -0.07656 0.0956 C -0.0677 0.1074 -0.05625 0.11087 -0.04496 0.1155 C -0.0375 0.12199 -0.02882 0.1243 -0.01996 0.12661 C 0.0191 0.12222 0.00903 0.12754 0.03004 0.11342 C 0.03438 0.10462 0.03941 0.10023 0.04514 0.09328 C 0.0632 0.07199 0.04827 0.08634 0.06007 0.07546 C 0.06112 0.07337 0.06337 0.07152 0.06337 0.06898 C 0.06337 0.0331 0.05209 0.0493 0.025 0.05115 C 0.01945 0.05254 0.01389 0.05648 0.00834 0.05555 C 0.00105 0.05439 -0.00416 0.03796 -0.00659 0.03101 C -0.00538 0.02523 -0.0052 0.01898 -0.00329 0.01342 C 0.00157 0.000229999999999999 -5.55556E-007 0.0199 -5.55556E-007 -6.66667E-006 Z">
                                      <p:cBhvr>
                                        <p:cTn id="3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C 0.01337 0.0169 0.02691 0.01412 0.04514 0.01551 C 0.05243 0.01806 0.05972 0.01898 0.06666 0.02222 C 0.07396 0.03148 0.07517 0.03125 0.08177 0.04445 C 0.08403 0.04884 0.08854 0.04908 0.09166 0.05116 C 0.1033 0.05903 0.1158 0.06459 0.12847 0.06898 C 0.14392 0.06736 0.15955 0.0669 0.175 0.06435 C 0.18264 0.06297 0.2 0.04236 0.2033 0.04213 C 0.24045 0.04074 0.27795 0.04213 0.3151 0.04213 E">
                                      <p:cBhvr>
                                        <p:cTn id="49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9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 0.04214 C 0.30226 0.04514 0.28906 0.04746 0.27673 0.05325 C 0.27292 0.05695 0.2691 0.06065 0.2651 0.06436 C 0.26354 0.06598 0.26007 0.06876 0.26007 0.06876 C 0.25816 0.07269 0.25347 0.07501 0.2533 0.07987 C 0.25226 0.10903 0.25382 0.1176 0.25677 0.13982 C 0.25746 0.15186 0.25434 0.16621 0.26007 0.17547 C 0.26406 0.18195 0.27292 0.18264 0.2783 0.18427 C 0.29167 0.1882 0.30503 0.19121 0.3184 0.19538 C 0.32014 0.19769 0.32135 0.20047 0.32344 0.20209 C 0.32864 0.20602 0.3401 0.21112 0.3401 0.21112 C 0.34236 0.21413 0.3441 0.2176 0.3467 0.21991 C 0.34809 0.2213 0.35035 0.22084 0.35173 0.22223 C 0.3533 0.22385 0.35382 0.22686 0.35503 0.22871 C 0.35764 0.23264 0.36059 0.23612 0.36337 0.23982 C 0.36441 0.24144 0.36667 0.24445 0.36667 0.24445 C 0.3684 0.25116 0.37309 0.26158 0.37673 0.26667 C 0.3809 0.28427 0.375 0.26274 0.38177 0.27778 C 0.38871 0.29329 0.37743 0.27616 0.38663 0.28889 C 0.3901 0.30209 0.39826 0.31343 0.40833 0.3176 C 0.41267 0.32362 0.41614 0.32339 0.4217 0.32663 C 0.42621 0.3294 0.43507 0.33542 0.43507 0.33542 C 0.43819 0.33959 0.44219 0.34214 0.44496 0.34653 C 0.45885 0.36783 0.44392 0.35371 0.46007 0.36667 C 0.46389 0.37408 0.46528 0.37709 0.4717 0.37987 C 0.47344 0.38218 0.47465 0.38496 0.47673 0.38658 C 0.47969 0.38889 0.48663 0.39098 0.48663 0.39098 C 0.48785 0.39329 0.48854 0.39584 0.4901 0.39769 C 0.49305 0.40116 0.5 0.40649 0.5 0.40649 C 0.50434 0.41552 0.51094 0.42084 0.51667 0.42871 C 0.51979 0.43288 0.5217 0.43843 0.525 0.44214 C 0.52639 0.44376 0.52847 0.44329 0.53003 0.44445 C 0.53177 0.44561 0.53351 0.447 0.53507 0.44885 C 0.54462 0.45996 0.54965 0.46852 0.56007 0.47778 C 0.56528 0.48241 0.56771 0.49214 0.57344 0.49538 C 0.58177 0.50001 0.58837 0.50718 0.5967 0.51112 C 0.60399 0.52385 0.61337 0.53102 0.6217 0.54214 C 0.62604 0.55927 0.61979 0.53866 0.6283 0.55325 C 0.62934 0.5551 0.62917 0.55788 0.63003 0.55996 C 0.63246 0.56621 0.63472 0.57269 0.63837 0.57778 C 0.64219 0.59214 0.64219 0.61482 0.65677 0.61552 C 0.67222 0.61621 0.68785 0.61552 0.7033 0.61552 E">
                                      <p:cBhvr>
                                        <p:cTn id="52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79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3 0.61551 C 0.69583 0.61713 0.68889 0.61921 0.6816 0.62222 C 0.68056 0.62454 0.67951 0.62685 0.6783 0.62893 C 0.67726 0.63055 0.675 0.63125 0.67483 0.63333 C 0.67431 0.63842 0.6757 0.64375 0.67656 0.64884 C 0.67691 0.65116 0.67708 0.65393 0.6783 0.65555 C 0.67951 0.65717 0.6816 0.65717 0.68316 0.65787 C 0.69011 0.66666 0.70365 0.67106 0.7132 0.67106 E">
                                      <p:cBhvr>
                                        <p:cTn id="5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9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319 0.67106 C 0.70399 0.66273 0.70139 0.65856 0.68993 0.65347 C 0.68229 0.6463 0.67795 0.63588 0.66996 0.62893 C 0.66632 0.62153 0.66284 0.6169 0.65989 0.60903 C 0.66163 0.5919 0.66284 0.57454 0.66996 0.55995 C 0.67239 0.55 0.67882 0.53333 0.68333 0.52454 C 0.68593 0.51412 0.68975 0.50185 0.69166 0.4912 C 0.69375 0.4787 0.69618 0.46643 0.70156 0.45555 C 0.70503 0.43796 0.70868 0.41528 0.71666 0.4 C 0.72031 0.37384 0.71614 0.40046 0.71996 0.38218 C 0.72118 0.37639 0.72326 0.36458 0.72326 0.36458 C 0.72482 0.33055 0.72326 0.29606 0.72656 0.26227 C 0.72708 0.25718 0.74218 0.25509 0.74826 0.25347 C 0.75191 0.24838 0.75 0.24884 0.75329 0.24884 E">
                                      <p:cBhvr>
                                        <p:cTn id="58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Before Gallio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18:12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o - proconsul of Acha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uled in A. D. 5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udius was the ruling Caesar in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believing Jews made an accusation against Paul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n persuades men to worship God contrary to the law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o refused to hear thei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this government official act proper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0AA-7C3D-4905-9022-8B720BB7BFDB}" type="slidenum">
              <a:t>4</a:t>
            </a:fld>
          </a:p>
        </p:txBody>
      </p:sp>
    </p:spTree>
  </p:cSld>
  <p:transition spd="med"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Jews Were Humiliated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18:16-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o ordered the Jews out of the court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cess, guards beat Sosthenes (probably for protesting and not lea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sthenes was the chief ruler of the synagogue in Cori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o ignored the b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 This Sosthenes is not the same man mentioned 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Corinthians 1:1 unless he was converted after t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1F1-0737-42FF-A9E0-CD2A208CEEAA}" type="slidenum">
              <a:t>5</a:t>
            </a:fld>
          </a:p>
        </p:txBody>
      </p:sp>
    </p:spTree>
  </p:cSld>
  <p:transition spd="med">
    <p:plus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Leaves Corinth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18: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 good while, Paul left Corinth and sailed to Sy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and Aquila went with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ention of Silas or Timo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reached Cenchrea, the seaport for Ephesus, he had cut his hair for a v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we know for su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d the vow or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v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9D7-C94D-47B7-BF29-344E843BE991}" type="slidenum">
              <a:t>6</a:t>
            </a:fld>
          </a:p>
        </p:txBody>
      </p:sp>
    </p:spTree>
  </p:cSld>
  <p:transition spd="med">
    <p:plus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Goes To Ephesu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18:19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Ephesus Paul “reasoned” with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ked him to stay longer, but he refused and said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return again unto you, if God wil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and Aquila did stay in Eph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sailed from Ephesus to Caesarea, the seaport for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6CD-871A-44C6-B085-ADE6D3AD7AB5}" type="slidenum">
              <a:t>7</a:t>
            </a:fld>
          </a:p>
        </p:txBody>
      </p:sp>
    </p:spTree>
  </p:cSld>
  <p:transition spd="med">
    <p:plus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130-22F5-483D-9DF9-16D0B5CF3619}" type="slidenum">
              <a:t>8</a:t>
            </a:fld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581280" y="0"/>
            <a:ext cx="2352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esa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4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837-9D07-4A82-8DF4-40CE56E486BF}" type="slidenum">
              <a:t>9</a:t>
            </a:fld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3:53:59Z</dcterms:created>
  <dc:creator>Frank D Vines</dc:creator>
  <dc:description/>
  <dc:language>en-US</dc:language>
  <cp:lastModifiedBy>Frank D Vines</cp:lastModifiedBy>
  <dcterms:modified xsi:type="dcterms:W3CDTF">2007-03-25T13:26:24Z</dcterms:modified>
  <cp:revision>24</cp:revision>
  <dc:subject/>
  <dc:title>“Go Tell The Good News” - Part 1</dc:title>
</cp:coreProperties>
</file>